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1466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7351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0"/>
            <a:ext cx="4435560" cy="7351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450440" y="1099800"/>
            <a:ext cx="7332840" cy="54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6965640"/>
            <a:ext cx="8186760" cy="65977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b">
            <a:noAutofit/>
          </a:bodyPr>
          <a:lstStyle>
            <a:lvl1pPr indent="0" algn="r">
              <a:buNone/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43D544CE-71C6-40DB-9AE2-46C53346BCCF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579744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4640" rIns="134640" tIns="67320" bIns="67320" anchor="b">
            <a:noAutofit/>
          </a:bodyPr>
          <a:p>
            <a:pPr algn="r"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A7BBDA68-0B57-4A9B-BB2C-AC97039117AB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450800" y="1100160"/>
            <a:ext cx="7332840" cy="549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023480" y="6965640"/>
            <a:ext cx="8186760" cy="65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579744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4640" rIns="134640" tIns="67320" bIns="67320" anchor="b">
            <a:noAutofit/>
          </a:bodyPr>
          <a:p>
            <a:pPr algn="r"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B81098C4-97A5-4EC2-8B3D-4D8C693F1662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454040" y="1100160"/>
            <a:ext cx="7329600" cy="54975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23480" y="6962760"/>
            <a:ext cx="8186760" cy="66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F36-C4F2-4D4B-AA3A-86D90090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54A-68B5-4AE5-81CA-0EC4D75B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882-5B32-4069-9C7B-B908472B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C436-202F-4BEC-AEFA-C1B9A2F4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295-1A3E-4AAE-ADA4-43E4D18E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055-2A8A-4A39-AC6A-01F89CBD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A56-963C-448E-9BA4-88D45293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F74-18B2-49EC-840E-DC427752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3E1-3537-4DEF-9F4C-C59CEC7B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D39-8574-4824-8050-51B10D89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D3EC-DAAB-4B5E-BEA4-43DDF3D2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015-FED9-4CAA-A60A-BDD60099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3D24-6379-4E39-ADAF-1DD6BCCDE38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0" y="333360"/>
            <a:ext cx="9144000" cy="6524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5"/>
          <p:cNvSpPr/>
          <p:nvPr/>
        </p:nvSpPr>
        <p:spPr>
          <a:xfrm>
            <a:off x="4187880" y="620640"/>
            <a:ext cx="441648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Which regulatory obligations can be removed? Reasons for removing could be for exampl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is not used or seldom used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 risks are prevented or controlled. Examples are removing of permit systems, prohibitions and announcement obligation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veral regulations serve the same purpose. Permits could be integrated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6"/>
          <p:cNvSpPr/>
          <p:nvPr/>
        </p:nvSpPr>
        <p:spPr>
          <a:xfrm>
            <a:off x="4187880" y="500688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duction of time consumed by governmental bod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by (a) one of the previous steps and (b) streamlining of work process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7"/>
          <p:cNvSpPr/>
          <p:nvPr/>
        </p:nvSpPr>
        <p:spPr>
          <a:xfrm>
            <a:off x="4187880" y="5518080"/>
            <a:ext cx="4416480" cy="10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mprovement of service level of governmental bodies to citizens and businesses, aimed at aspects like accessibility and customer satisfa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king regulations quickly and easily accessible via internet, search engines, decision trees or offic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iving the proper informa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elping businesses with required actions for obligations instead of only accepting/reject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 unambiguousl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eside these aspects governmental bodies could give businesses extra information concerning other relevant regulations. For instance by giving descriptions of these regulations or contact informa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8"/>
          <p:cNvSpPr/>
          <p:nvPr/>
        </p:nvSpPr>
        <p:spPr>
          <a:xfrm>
            <a:off x="1981080" y="3286080"/>
            <a:ext cx="719280" cy="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9"/>
          <p:cNvSpPr/>
          <p:nvPr/>
        </p:nvSpPr>
        <p:spPr>
          <a:xfrm>
            <a:off x="2340000" y="371808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0"/>
          <p:cNvSpPr/>
          <p:nvPr/>
        </p:nvSpPr>
        <p:spPr>
          <a:xfrm>
            <a:off x="2340000" y="414972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1"/>
          <p:cNvSpPr/>
          <p:nvPr/>
        </p:nvSpPr>
        <p:spPr>
          <a:xfrm>
            <a:off x="2340000" y="465300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2"/>
          <p:cNvSpPr/>
          <p:nvPr/>
        </p:nvSpPr>
        <p:spPr>
          <a:xfrm flipV="1">
            <a:off x="2340000" y="3285720"/>
            <a:ext cx="0" cy="18716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3"/>
          <p:cNvSpPr/>
          <p:nvPr/>
        </p:nvSpPr>
        <p:spPr>
          <a:xfrm>
            <a:off x="1260360" y="839880"/>
            <a:ext cx="273708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4"/>
          <p:cNvSpPr/>
          <p:nvPr/>
        </p:nvSpPr>
        <p:spPr>
          <a:xfrm>
            <a:off x="1260360" y="1652760"/>
            <a:ext cx="273708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5"/>
          <p:cNvSpPr/>
          <p:nvPr/>
        </p:nvSpPr>
        <p:spPr>
          <a:xfrm>
            <a:off x="1332000" y="2455920"/>
            <a:ext cx="266544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6"/>
          <p:cNvSpPr/>
          <p:nvPr/>
        </p:nvSpPr>
        <p:spPr>
          <a:xfrm>
            <a:off x="3780000" y="328608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7"/>
          <p:cNvSpPr/>
          <p:nvPr/>
        </p:nvSpPr>
        <p:spPr>
          <a:xfrm>
            <a:off x="3780000" y="371808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8"/>
          <p:cNvSpPr/>
          <p:nvPr/>
        </p:nvSpPr>
        <p:spPr>
          <a:xfrm>
            <a:off x="3780000" y="414972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9"/>
          <p:cNvSpPr/>
          <p:nvPr/>
        </p:nvSpPr>
        <p:spPr>
          <a:xfrm>
            <a:off x="3780000" y="465300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0"/>
          <p:cNvSpPr/>
          <p:nvPr/>
        </p:nvSpPr>
        <p:spPr>
          <a:xfrm>
            <a:off x="2130120" y="6127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1"/>
          <p:cNvSpPr/>
          <p:nvPr/>
        </p:nvSpPr>
        <p:spPr>
          <a:xfrm>
            <a:off x="2130120" y="14256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2"/>
          <p:cNvSpPr/>
          <p:nvPr/>
        </p:nvSpPr>
        <p:spPr>
          <a:xfrm>
            <a:off x="2130120" y="222876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3"/>
          <p:cNvSpPr/>
          <p:nvPr/>
        </p:nvSpPr>
        <p:spPr>
          <a:xfrm>
            <a:off x="2130120" y="30592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4"/>
          <p:cNvSpPr/>
          <p:nvPr/>
        </p:nvSpPr>
        <p:spPr>
          <a:xfrm>
            <a:off x="4211640" y="1449360"/>
            <a:ext cx="439272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or certain information obligations in regulation other instruments can be used to achieve the same  policy goal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announce system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prohibition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dispensation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5"/>
          <p:cNvSpPr/>
          <p:nvPr/>
        </p:nvSpPr>
        <p:spPr>
          <a:xfrm>
            <a:off x="4213080" y="2241720"/>
            <a:ext cx="439128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 order to acquire permits certain procedures (activities) have to be followed. By removin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on-functional parts of these procedures simplifications can be realiz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tain supply of required information becomes unnecessary when governmental bodies use the information that is already available at other governmental bodi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tain explanations become unnecessary when governmental bodies do more research themselv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6"/>
          <p:cNvSpPr/>
          <p:nvPr/>
        </p:nvSpPr>
        <p:spPr>
          <a:xfrm>
            <a:off x="4213080" y="3141720"/>
            <a:ext cx="439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creasing selection-limits for determining which citizens or businesses belong to the target grou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narrowing the definition of the selection criteri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7"/>
          <p:cNvSpPr/>
          <p:nvPr/>
        </p:nvSpPr>
        <p:spPr>
          <a:xfrm>
            <a:off x="4187880" y="357660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owering the number of times citizens or businesses need to fulfill oblig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only require a report when things change instead of periodically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8"/>
          <p:cNvSpPr/>
          <p:nvPr/>
        </p:nvSpPr>
        <p:spPr>
          <a:xfrm>
            <a:off x="4187880" y="400680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owering of time consumed by simplifying 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example the use of (a) ICT, (b) only asking for relevant information (c) streamlining of work process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9"/>
          <p:cNvSpPr/>
          <p:nvPr/>
        </p:nvSpPr>
        <p:spPr>
          <a:xfrm>
            <a:off x="4187880" y="451008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or instance (1) reduction of legal charges (2) lowering of costs by simplifying certain 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, like less extra copies of appeal forms or evidenc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0"/>
          <p:cNvSpPr/>
          <p:nvPr/>
        </p:nvSpPr>
        <p:spPr>
          <a:xfrm>
            <a:off x="2340000" y="515772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1"/>
          <p:cNvSpPr/>
          <p:nvPr/>
        </p:nvSpPr>
        <p:spPr>
          <a:xfrm>
            <a:off x="3780000" y="515772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2"/>
          <p:cNvSpPr/>
          <p:nvPr/>
        </p:nvSpPr>
        <p:spPr>
          <a:xfrm>
            <a:off x="1405080" y="5816520"/>
            <a:ext cx="259236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3"/>
          <p:cNvSpPr/>
          <p:nvPr/>
        </p:nvSpPr>
        <p:spPr>
          <a:xfrm>
            <a:off x="2125440" y="55897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4"/>
          <p:cNvSpPr/>
          <p:nvPr/>
        </p:nvSpPr>
        <p:spPr>
          <a:xfrm>
            <a:off x="2484360" y="400536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171720" indent="-17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c. Reduction of time involved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5"/>
          <p:cNvSpPr/>
          <p:nvPr/>
        </p:nvSpPr>
        <p:spPr>
          <a:xfrm>
            <a:off x="2484360" y="450864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d. Reduction of costs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6"/>
          <p:cNvSpPr/>
          <p:nvPr/>
        </p:nvSpPr>
        <p:spPr>
          <a:xfrm>
            <a:off x="2484360" y="314172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a. Reduction of target group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7"/>
          <p:cNvSpPr/>
          <p:nvPr/>
        </p:nvSpPr>
        <p:spPr>
          <a:xfrm>
            <a:off x="2484360" y="3573360"/>
            <a:ext cx="1370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marL="166320" indent="-16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b. Reduction of                                   frequency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8"/>
          <p:cNvSpPr/>
          <p:nvPr/>
        </p:nvSpPr>
        <p:spPr>
          <a:xfrm>
            <a:off x="2484360" y="501336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171720" indent="-17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e. Reduction of appeal-tim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9"/>
          <p:cNvSpPr/>
          <p:nvPr/>
        </p:nvSpPr>
        <p:spPr>
          <a:xfrm>
            <a:off x="684360" y="223992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 Can certain administrative 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remov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0"/>
          <p:cNvSpPr/>
          <p:nvPr/>
        </p:nvSpPr>
        <p:spPr>
          <a:xfrm>
            <a:off x="684360" y="622440"/>
            <a:ext cx="1436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 Can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nformation obligations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remov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from regulation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1"/>
          <p:cNvSpPr/>
          <p:nvPr/>
        </p:nvSpPr>
        <p:spPr>
          <a:xfrm>
            <a:off x="1401840" y="105408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2"/>
          <p:cNvSpPr/>
          <p:nvPr/>
        </p:nvSpPr>
        <p:spPr>
          <a:xfrm>
            <a:off x="684360" y="6310440"/>
            <a:ext cx="1436400" cy="431640"/>
          </a:xfrm>
          <a:prstGeom prst="roundRect">
            <a:avLst>
              <a:gd name="adj" fmla="val 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aximum reduction of Administrative burden achie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3"/>
          <p:cNvSpPr/>
          <p:nvPr/>
        </p:nvSpPr>
        <p:spPr>
          <a:xfrm>
            <a:off x="684360" y="3033720"/>
            <a:ext cx="1436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. Can certain administrative activities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implifi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4"/>
          <p:cNvSpPr/>
          <p:nvPr/>
        </p:nvSpPr>
        <p:spPr>
          <a:xfrm>
            <a:off x="1401840" y="3465360"/>
            <a:ext cx="0" cy="2052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5"/>
          <p:cNvSpPr/>
          <p:nvPr/>
        </p:nvSpPr>
        <p:spPr>
          <a:xfrm>
            <a:off x="1041480" y="1096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6"/>
          <p:cNvSpPr/>
          <p:nvPr/>
        </p:nvSpPr>
        <p:spPr>
          <a:xfrm>
            <a:off x="1041480" y="1917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7"/>
          <p:cNvSpPr/>
          <p:nvPr/>
        </p:nvSpPr>
        <p:spPr>
          <a:xfrm>
            <a:off x="1041480" y="2722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8"/>
          <p:cNvSpPr/>
          <p:nvPr/>
        </p:nvSpPr>
        <p:spPr>
          <a:xfrm>
            <a:off x="1041480" y="3510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9"/>
          <p:cNvSpPr/>
          <p:nvPr/>
        </p:nvSpPr>
        <p:spPr>
          <a:xfrm>
            <a:off x="1041480" y="5994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2"/>
          <p:cNvSpPr/>
          <p:nvPr/>
        </p:nvSpPr>
        <p:spPr>
          <a:xfrm>
            <a:off x="684360" y="143820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 Can regulatory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nformation oblig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implifi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3"/>
          <p:cNvSpPr/>
          <p:nvPr/>
        </p:nvSpPr>
        <p:spPr>
          <a:xfrm>
            <a:off x="1403280" y="188280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4"/>
          <p:cNvSpPr/>
          <p:nvPr/>
        </p:nvSpPr>
        <p:spPr>
          <a:xfrm>
            <a:off x="1401840" y="267480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5"/>
          <p:cNvSpPr/>
          <p:nvPr/>
        </p:nvSpPr>
        <p:spPr>
          <a:xfrm>
            <a:off x="684360" y="551808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. Is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mprovemen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ervice level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possi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6"/>
          <p:cNvSpPr/>
          <p:nvPr/>
        </p:nvSpPr>
        <p:spPr>
          <a:xfrm>
            <a:off x="1403280" y="595152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2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0"/>
          <p:cNvSpPr/>
          <p:nvPr/>
        </p:nvSpPr>
        <p:spPr>
          <a:xfrm>
            <a:off x="0" y="333360"/>
            <a:ext cx="9144000" cy="179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eps to reduce Administrative Burden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xamples of reducing Administrative Burd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9"/>
          <p:cNvSpPr/>
          <p:nvPr/>
        </p:nvSpPr>
        <p:spPr>
          <a:xfrm>
            <a:off x="-16560" y="28440"/>
            <a:ext cx="48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ecision Tree: Less Administrative burden – Better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Afbeelding 2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195640" y="1376280"/>
            <a:ext cx="5045040" cy="332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SIRA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Soestdijkseweg Zuid 2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3721 AK Biltho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lpdes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Tel: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+31  (0)30 602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Fax: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+31  (0)30 602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Patrick van der P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E-mail: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3399"/>
                </a:solidFill>
                <a:latin typeface="Arial"/>
                <a:ea typeface="Arial"/>
              </a:rPr>
              <a:t>P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atrick.vanderpoll@siraconsulting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Or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3399"/>
                </a:solidFill>
                <a:latin typeface="Arial"/>
                <a:ea typeface="Arial"/>
              </a:rPr>
              <a:t>Joland. van.der.heijden@siraconsulting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2:25:50Z</dcterms:created>
  <dc:creator>peter.bex</dc:creator>
  <dc:description/>
  <dc:language>en-US</dc:language>
  <cp:lastModifiedBy>Patrick van der Poll</cp:lastModifiedBy>
  <cp:lastPrinted>2010-11-26T13:51:40Z</cp:lastPrinted>
  <dcterms:modified xsi:type="dcterms:W3CDTF">2019-02-14T14:35:34Z</dcterms:modified>
  <cp:revision>82</cp:revision>
  <dc:subject/>
  <dc:title>Slide 1</dc:title>
</cp:coreProperties>
</file>